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55D3-499A-4915-A430-B41734F8D7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E87-F723-42F7-89FE-51E850E6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DEB-A6B1-486E-921C-B5D595B5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813DA-86DF-47D0-AEAD-D85C7B40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BAC07-644D-4207-A954-70F498F3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C96C2-4468-46C6-9D6D-3F025C04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D2B0D-90C2-466F-BB27-38CEC52F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5FA24-8781-4A3C-9967-421981F0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F901A-07C8-4E61-A8A4-FC8800CB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C3DFA-0CB7-4464-A1BB-C5F012ED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B243A-CC3E-4FF6-BB6B-63F28662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9E386-7D89-426F-94AA-E8FFD59B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B8CC1-E4DB-418C-8FF7-8F46BDE5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CFF-A1C4-4BAD-A214-81638215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38A78-EFC7-4363-8DD4-F5ED3168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794BE-634A-4F82-AB36-D4BB23AA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02B9C-057D-42FE-884A-F93BD6B1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D882B-3B59-4B20-80F4-87E8F153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C59F1-925F-420C-B049-9B2E220F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52D0D-4E8E-44AA-B7FF-64D55299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13547-EDA0-4B84-B607-66206359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E63BA-812F-4A1D-A8F3-5A1B0F26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33009-82BF-4285-B54D-057E995E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04565-45E1-4A58-8558-DBEB66FF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F7C-D5C2-4DA6-8270-F0727E76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F6EB0-9591-40F1-A42C-CFADE6F3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48318-6893-4195-846E-15489BDD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35C2F-4E13-4620-A32C-04861A9E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0B731-51AE-45EE-955D-BB7B4F8B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D1EE4-03D2-4893-989D-D3169938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082CE-1367-4FEF-B044-F5C70F7B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65A70-3E81-47B2-AD18-5E6E7877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2A368-CC40-43E4-B34B-D5EC924E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C3867-EDBD-4F08-AE8E-B92F2BBD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A468F-07A5-4369-8984-E9918DD9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828F-64F1-400D-A7F9-31A50542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43D5F-DDA0-4A42-8926-0DB9E97E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071C7-F23F-4546-9F5A-66D50234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8BDE3-0E7C-4C79-B82C-CC7F4914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162D3-3AD1-41C3-86BB-32C7E47F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BB1A5-CF16-4262-94A8-A8159C29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CD092-128B-4376-9B22-E8A12EF3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A45C7-1C3F-4107-8FCB-B7B0CA55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064D5-0892-49A1-8E7F-8A1B1B70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1116A-6C5F-46AF-9C7A-9EA7083D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C3CD2-726C-42E7-9DB6-AF863EA4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D0D7-D49D-4929-93BE-6AEB7AB2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81F13-26E7-4996-9632-17A3B25D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C084E-D351-4DF7-9569-42772CC8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E1CA5-713E-4652-9F89-55C105EC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01D09-8071-4118-A316-03E6E6D8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78208-03FE-4895-9E2C-3E3D0D7D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93C82-2993-4C75-8653-45276B9B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7CDFC-C44A-46FB-8BF8-2B52FD1D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07418-0EA4-4AAF-906C-59A6870B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12779-FF6A-49CF-B47B-0A8149A4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25CAF-A461-4437-BACD-8C6A3077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1ED3-A7F0-459C-809E-CE3A31AB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38DDC-7027-4E99-9B93-EB71CDB3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B0D1E-07C0-4D80-B771-D73644B0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9488B-09ED-4BC6-89E1-05AA1CC6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851CB-01C7-4312-9511-1E78E31D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BECDD-E014-4A2C-9A51-9299794A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1A084-9F58-46B0-80A0-16E41BDC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AD49D-FAA2-422F-B4BE-5B6EBFB2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06587-8DFC-451F-AA53-3C58448D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DC90FD-948E-4A53-A725-AA10CB8E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B45746-315F-4960-AF17-8970C813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7DBF-58C6-450A-B27D-1106CC8E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47F4D8-0F6A-4FA4-8C58-D4D3B522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00CA1-BAE1-499F-BCE9-71E11688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6AE05-A914-4D64-A77E-8EDFECCC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96359F-126A-46DC-9624-65A0A49C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84BEE-5012-4251-8BA5-C1D57CD0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D563D-DC0D-49DF-9F1A-0C0A60C4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538CF6-A197-4BC1-A45D-7B4B3172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33D75-0B4E-418F-9F97-76A2DE3F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A77DB-A1F2-4DEE-9C5A-5B4279E3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6419-E588-44C4-88D0-65268A25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387B-B861-4DA4-B5C3-D0D1A38A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31CE-D379-4F1D-900C-DF915B2D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697-17D7-48DD-B7E3-B17B7D52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169F-CDC9-486A-B2E1-AB97328A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7E81-890A-4DB1-9CB0-FD9139CD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EB84-4796-4951-BD3A-9BBC30F5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6A0C-DFA1-4ACB-8C2A-491C6061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E4E8-7CF9-41EF-9995-F77FDEFD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554AA-6318-46C2-AD19-553ACC53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9AC9E-50EB-4F7A-9AF2-5266F0F7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D213-324D-4459-8893-79469598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EF6F0-C99B-427A-89A2-AB35B2F1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8C424-81C8-464E-AC38-00FF2904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E1C-7970-4687-A363-F0908D77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A9DEA-5AD6-45B7-A154-3CF51AA0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AEE0-4DEF-4424-8EB9-42B18828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D7478-976A-4790-82F7-92EE64C9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30D11-DA6A-4716-A865-A152DCBF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CF35E-FC60-4AA0-9B99-E28758BC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C9463-A7FB-498A-9886-56ADEC7B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D00AC-DEC4-442C-A309-3454E430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9C5E9-AA97-4E4E-B3C9-985B4849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E078A-AB7D-4D1B-9DE3-1E646213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88BB7-FCDC-4573-A414-797BE0EB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F7B-6D73-40BD-8F47-1162C206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108EB-4949-4720-A1A9-F150A5B6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E3ED9-0D5E-449B-A696-76231FD3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155E0-30C9-49E7-9CE7-50172EE3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5300A-CC14-45D7-A8EA-C1DEEEE1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B8E66-7404-4322-9310-80E54D3A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77F17-6B22-445A-BE0D-4ECD3557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1FFF3-87E6-48CC-A956-1A04BA6E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920C5-0922-444B-A59B-1FB64375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6FF02-CF0D-43CE-9A81-9AACFF21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644EC-DAFC-4194-AA19-B104B416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59C-EE60-4EC7-AFE3-ED0C389A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EB06A-168D-400B-8048-4595AFE4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59857-E0D7-4358-B2D9-472C29D8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C4E89-733F-44D0-9A46-EEA22475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66F59-7121-40FB-9E4B-BC97A807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2158B-BB57-4807-8435-5B9EC2B5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5EE9B-76FE-4B79-B5BC-6296BEAD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42A3E-E65F-4716-8C16-98172302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AED59-2C78-4F2B-BF65-BDCA7D02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E562E-989E-43BF-BDA7-9113340C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891F4-1A60-4CE4-A736-4AC5FF55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85C-7051-4266-91BA-078E0126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49449-367F-4AE1-BD30-E29F3E7C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66E20-EEDA-43E5-82C9-7A046945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C3DA1-509B-458E-801A-5463A4CC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BB5F0-9F6E-4316-86A5-7649503E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1C78C-2294-4FF4-9A48-026E82C1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2D5E2-C2C2-4EB1-AC42-AAD87795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06D0E-59F1-4AF5-9084-2B886004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06E29-3819-458E-8B59-1D9A260C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914BE-A48C-493E-8395-BE5012E2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C41AF-539B-49C3-8A52-2916A6B8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E92-81D7-4AA3-B1F4-0B06AFF0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C458B-0FEB-40AB-A06A-853D4673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28A20-AADA-45CE-A5E0-906BF74C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5E30E-55F6-4519-8885-CB317C4B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F9413-6E84-400A-9070-52399AD5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0610B-8246-4B25-B3D5-C5A541A3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7A76A-D46E-4D83-A47C-0E5E38A9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1145E-922E-4009-8C7F-FCAC2282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63304-BECE-4D7D-B91D-9746BC46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425E5-908B-4BFA-9C65-A96FD1FE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DF72E-4D4D-41AD-AF92-4559F3AA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D6D-9170-4CB8-8B69-E82A475A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D021A-FB2C-4E0B-A8F4-62858582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63118-1D10-49B8-8C00-CAEB467F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70F31-93AE-47F8-922F-B1925549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3C4BC-5236-4149-A1B4-81629F22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0DBFB-E2E2-49E6-9CB8-4F05C9B4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5D8F6-A996-4DC7-9AF5-49D4CC05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35A47-A07C-4CC1-9061-552B15CA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F4F97-1CCF-469F-9C01-582293F3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CFA49-F0D0-4C01-9AAD-6DD832E5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E58DB-E1D4-43C0-8FF7-9F088BAF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72E-7F30-46E1-B02C-2AC65A0F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B23E1-D27B-4B82-9B02-25E7BBAB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C0F84-7F26-47CB-B542-647B5EAA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12BDC-7906-41C5-AD23-59BDB947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C76D0-95F1-4D3C-9B6D-697C6434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7B350-BF1D-4EF2-94F4-BCE3AF1F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BE736-AD44-4515-93C7-35EC63B8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1A0D7-C6CC-4BEA-93BB-38DBA611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01A2D-24F3-4560-B6C0-E171D449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E79DD-E7FB-45F9-87FA-39D400C7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A9F36-8617-4406-A4A5-070DBC17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3417-E3D2-4223-8BA9-D8724477DAC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6379-0F8A-413D-99A0-19CEB1E848A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1B1A-EE2A-4F10-AE27-ECF5A62AB1F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13CA-323F-4AB9-A2E0-6161190C252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92F9-38D0-41C6-9D54-DCD4F2239FF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F53B-ED1E-493B-89CF-58F263BB005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2C8B-AD7E-47CB-A76F-42D256F2364A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6239-3F3B-4DA2-8B27-C6D664FBEA6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3A16-B950-42DB-B5AD-E4EB9AC068A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D627-E4E1-4A5F-8082-2195915353F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C8D8-D8E7-4616-890E-B23B1494FEF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C8D1-7397-48B1-8C23-9AC6EDDD9C5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E551-6446-491F-A609-632E70219D7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C954-D350-4EBE-9159-BDD24B85609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66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  <p:sp>
        <p:nvSpPr>
          <p:cNvPr id="76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8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6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  <p:sp>
        <p:nvSpPr>
          <p:cNvPr id="738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  <p:sp>
        <p:nvSpPr>
          <p:cNvPr id="742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5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  <p:sp>
        <p:nvSpPr>
          <p:cNvPr id="746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9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  <p:sp>
        <p:nvSpPr>
          <p:cNvPr id="754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LEGION</cp:lastModifiedBy>
  <dcterms:modified xsi:type="dcterms:W3CDTF">2017-07-03T10:04:04Z</dcterms:modified>
  <cp:revision>16</cp:revision>
  <dc:subject/>
  <dc:title>Ancient Mexico</dc:title>
</cp:coreProperties>
</file>